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132C4D50-0008-417C-BEE4-D64996AE64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2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2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50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2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7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9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202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204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10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12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5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7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6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8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31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33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41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43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6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8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8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60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63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5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5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7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90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92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5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7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300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302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5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7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10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12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5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7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23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5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9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41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51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53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4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5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elja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9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Uuring kohape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ata järgmist programmilõiku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 a = 10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int b = 20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 = b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üsimus 1: kas sa oled kunagi programmeerinud (kirjuta jah / ei)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üsimus 2: mis on a ja b väärtused selle lõigu täitmise järel? Kirjuta õige vastuse n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1)    a = 30  b = 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2)    a = 30  b = 2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3)    a = 20  b = 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4)    a = 20  b = 2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5)    a = 10  b = 1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6)    a = 10  b = 2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7)    a = 20  b = 1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8)    a = 0    b = 1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9)    Kui mitte ükski neist ei ole õige, märgi ise õiged väärtus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=         b=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09-03T06:40:06Z</dcterms:modified>
  <cp:revision>31</cp:revision>
  <dc:subject/>
  <dc:title> </dc:title>
</cp:coreProperties>
</file>